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F12-3920-4C31-BF4D-F20F483C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477-2533-473B-B8F5-102ACA91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F08-7685-495E-8CF5-4A72BC8C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652-1FCC-4FC0-A5E5-01E688D5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5F3-D879-4384-B7CE-A903FEA0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981-E24A-41B0-9213-8E7C3387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6FB-2183-4B5F-A3AB-5D298196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A9B-F51D-4A75-8577-16C45AFE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B44-99A3-49D6-AB62-6510802C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FE8-8138-4A01-A8B7-4CF8716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828-DA23-40F3-AF6C-1E1CA76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B58-73AB-4E7D-9EA9-269128F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5163-2A3E-4FAA-9CA1-698EF423FBF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es mots-clé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341360"/>
            <a:ext cx="68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0920" y="1341360"/>
          <a:ext cx="7273800" cy="4135680"/>
        </p:xfrm>
        <a:graphic>
          <a:graphicData uri="http://schemas.openxmlformats.org/drawingml/2006/table">
            <a:tbl>
              <a:tblPr/>
              <a:tblGrid>
                <a:gridCol w="1976400"/>
                <a:gridCol w="344520"/>
                <a:gridCol w="2319120"/>
                <a:gridCol w="432000"/>
                <a:gridCol w="22017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. lorry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6. letter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1. policeman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2. ill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7. revenge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2. disappeared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3. beat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8. swim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3. crying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4. pimp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9. love?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5. friend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2f1311"/>
                          </a:solidFill>
                          <a:latin typeface="Tekton"/>
                        </a:rPr>
                        <a:t>10. argument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Steve Badger</cp:lastModifiedBy>
  <dcterms:modified xsi:type="dcterms:W3CDTF">2006-08-28T11:53:28Z</dcterms:modified>
  <cp:revision>5</cp:revision>
  <dc:subject/>
  <dc:title>Les thèmes du récit</dc:title>
</cp:coreProperties>
</file>